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CB9-E01A-4880-B7F6-A5F57C73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125-A5AA-4A9A-9A13-54A0D3BC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C0B40-3D71-4A4C-A899-83E09912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FDEBC-4F2D-4D2A-8A79-B568A54C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0F16F-3239-4845-8443-A645B653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419F8-BDD9-43A1-81AF-3566DAF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D9424-6AB2-48DD-B801-BAD72CE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5964-6228-47F2-B67B-CA8B8D63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49889-6AEB-4FE3-BDF1-C7B620ED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06A5C-C3BE-4E41-8815-48681746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BE153-7CBA-4900-AF34-4B604EE5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A79EA-BB34-43E6-8FEB-862A6AED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F59-7055-43FF-BECE-2A8C8B41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BFBB2-9360-4D32-88F1-DCCF1FAB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41333-3CBE-4272-8C20-B10F06F3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E4963-E0E2-40B7-91BC-A46E2F9D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CE97B-7A6E-4C76-B8AC-AFE561E1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F203E-EA40-4CE7-A293-9FB099B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14882-3A8C-4499-B691-FDCAA44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1D7A9-5269-493D-9ACA-11EF6B4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1BCE3-20B5-48D8-A14D-0AEB60D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1292D-2155-40E7-9EA2-8F77A47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03D55-079F-4E30-81F3-30E69FD9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FAD-9DF6-4082-8B16-5C60E6A6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57751-FB0F-4151-8FF7-B88C9C60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D3215-F249-4A80-A3BC-5EE3A2C8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B3B47-1E1C-4E0D-B284-2131337B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50EA8-11C0-4DDF-AC85-9817A60A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AC1A1-286F-40C2-BEC2-0C0772A1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442AF-6EF6-4226-8323-0B787BA8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FEC78-9DDC-446A-B330-7A74EE97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0926D-56E2-4F7A-854C-DDCB420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A78A9-B81D-409F-8231-9A8CB2C9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E9C30-5680-4A95-A3C6-8FC57396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9E66-D934-4C26-AC91-D3711C27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05E10-EE08-46F3-BEBD-BFF6122C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8DF95-CD28-4702-A66F-73198265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7649F-D070-4782-9AAB-3D664E41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27CFA-9DB6-4B88-A9F9-F13759B9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D3902-F664-4D4F-821A-5BD30B82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19981-0937-45D6-8A8E-76349C8F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2E51C-44F1-43D4-98C8-718D599A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84557-6D4B-4D11-8B0A-2478E5C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9FAC8-DD47-43DD-9941-978E6F93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2DD0B-21F4-47E9-8F31-6EFD8D66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1702-382D-42CC-9B2E-221E5B34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E8DC6-5A1A-4E30-A8B1-0A2D61E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3CBAC-9BB3-444E-AC06-6A93C57E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A7634-CF7D-4259-A573-D34AAA89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0A18B-6F70-4D39-9B19-D47A04B9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6C5CE-4BA7-4840-88E1-EF4B05D6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947C8-5B44-4FFF-9D8C-38EF49EA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86EB7-FD96-4139-B95C-3C677B4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80B45-74A8-4806-8961-06597902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99737-3178-4FE0-926A-9CDB7FB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4B976-7DEF-41C6-8D54-C9DEBB3B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5234-915C-4012-9932-CBD90CBC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0B7BC-6800-4AEA-B595-9B55FD7E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8447F-AC2B-4B19-A0E8-478243DA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B8A2A-C103-4CE4-996A-8B5ABB88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C2A0A-A683-4845-8F74-A7F06212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86E71-53C3-4F00-9C2F-2E7AE567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5E821-8319-4282-967C-AAF32B44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54B5F-8B72-4815-811D-59CA1900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9C7B0-33E8-42D4-A49A-3CE0C687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61AA7-23F3-45A6-ABE5-5C7FC13A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894DA-C011-425B-B366-DAA0205B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0A08-7EF2-46A0-B8A0-10F90DB2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71CA0-6695-48DA-8909-BAA40B9B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113CB-B2FD-44CF-A8F7-38378A5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4B2C6-10FE-479B-A417-69612218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488F8-AF14-47A5-9458-1B2169D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0D71E-4A4D-4BE1-BB80-0FA884B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66A15-3861-43B8-BD20-B4871AB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01C35-1662-4401-A7F4-7BB2C107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E096E-F277-4884-A7AD-B66BEC61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51505-3C51-47FB-9DDC-014D49B6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1BAF0-DCF3-40C0-AF91-FC2ED309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DD60-A6BE-4042-BC9E-5FA708B2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3E60E-D342-47DE-89CF-E395C6A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7BB2B-CDDD-4459-9EAD-D7A287E2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BC474-5C4C-4C5C-BE33-51314759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74EC9-F0EB-41D9-8A8F-43793608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A7843-03F2-420C-B8C9-4D99A6F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57525-FE7A-4BF2-B9F3-5AE8BB3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FDBB7-ED20-4AC4-87B1-D616850F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CF13B-E9CA-474B-9C60-24DC4B8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96476-FDD0-4EDD-88DE-65189DA8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C7479-A2F0-4965-A128-3A25D87F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4FEC-0AF5-4916-B45E-7DDA337E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2D697-69A2-43E2-A226-9AA5F726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052A1-BBBE-439F-9B69-16AAF55B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410EE-BCD2-4310-8FD6-0DD0D06F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31F54-E87D-4866-AF31-189C883B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474AB-EEB6-4D36-B217-1C0C6DF9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B349D-F774-4C9A-BB57-66A8C1C9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69781-2D14-4D85-A0FE-13050230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9ABD3-B114-4F97-9249-1D02DF4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9B765-08DC-42D9-BA42-8C9B40D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787EC-F234-4A09-8FF5-F9A1753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345A-BFDB-43A8-BCE0-461E8B2E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5FE82-6341-42AB-A6A2-9E75CCC8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57113-C9B5-436C-A766-CB841791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63A98-B48B-413B-8D73-E133693D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DC4B6-B19E-4267-B5E6-AD0B7B0D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74EB8-6B4E-45C5-89A1-068E6D47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3B20F-FB45-463E-B235-D117EE15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E7F21-3A16-4F5A-A4CF-843CF942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88A73-C897-4C0C-94D9-A29C5CD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E552D-92CA-4D4B-B2FF-74DA7934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CD450-CEFC-42DC-BA15-C4089F08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40C-5E6B-404F-9056-DBE9504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B303-0A29-4857-8468-BD5432C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77207-7FB7-45D2-9304-D18A027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0482E-DDAA-4FD8-B73D-38F963B4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FCD87-C969-4352-B4A7-371995B0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41513-19F7-4F85-947E-8506C443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1DA0F-B3D6-41E3-8CAB-064431D2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F8449-A876-4A5E-B588-D6F98EFE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8ADE02-8872-4ADA-BFB6-B7E3C92F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565AA-667C-406C-963D-A405718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9353F-244C-47EF-9DED-613FCBE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96FB6-1F3D-442B-84EF-6ED0281C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9DD3-21AB-4168-9A33-F24CBC5C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43980-03B2-4C4D-B8E3-64507A3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DD41B-36C9-4704-AB9C-57AA14A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592F0-712F-4976-9B5F-20A447F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297D8-5B40-4D72-91F5-5A075C4C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03D15F-7525-4580-88E1-D29A59C9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FEDE7-66DE-43D6-AC58-63B6D401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AB03A-9CFC-4653-B379-B616641D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4DB66-6DF3-40FE-BE23-EFCC5B34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FE1DF-F925-4EF7-9ACC-DEFD96F2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E24B2-DC60-4691-BBDC-81052B8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92B0-8809-4CA0-A538-F67714F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6EA53-80C8-43F2-A9BF-D055EF66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F28FB-625A-4C19-9BB3-CE071E9A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5E55F-7C96-4F01-A6F4-51B8CFA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DFB9D-946A-47C3-AA86-1A8EAF1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DA6B9-9F2C-42EB-9C2A-568179DE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FD108-B104-416F-BEFD-DC3E4022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F5C1C-DC6E-430B-9D89-42E89E35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3687C-FA3D-4B09-9765-F883EEA6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C7811-30C4-4469-9065-9389D13E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1C1E50-4DD7-41CB-BD1B-65B6D4AD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9C4E-3132-4B1B-B393-9F7740CE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3AD20-E367-4AC8-BDD1-7AD65C4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BB315-E255-49F2-AD84-7D09C4CA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BC3DE-E6AB-48DB-A75A-9BAF85C1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B67B15-83CD-4B00-88EB-3E75A59C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3160A-7994-4EFE-B5A3-8A18A4DE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D18BC-C043-4DE5-92E5-AAAC2FC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D3D00-B035-4B3F-9F01-76E43D7F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796B9-9AD2-4B2F-88A4-F9BE7571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B95BE-379B-4CFC-8DA2-49F0F34B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4D506-B317-4472-A88F-1B59BF3A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C37A-6ED7-4C28-A33D-70A6E177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8FA279-A3DC-4357-AE03-1E35B88A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B70B4-3067-4723-AA4B-4A931F56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62639-0376-48D1-A95E-669B7E8E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A1321-28C4-4785-8BDC-87C2E007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B9703-4562-4546-B79B-3F9B4F2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70B4C-E7C0-42FF-9EBC-AD58202B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AEBB8-B598-4970-B334-D9A92588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48D323-E28F-4EC1-AB0C-8A6A3796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2532E-EE17-44A7-A70A-CAF1042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C8F76-53E1-4B3F-A48B-95B7C6CC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EDF2-3E77-44E3-A839-2897AA34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D0BF4-4894-451F-9273-D5160700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23D9B-68B6-42CD-98F6-DCF68A9C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AF46A-829F-4139-876C-FFCC06E1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BB3D-B84C-4360-B635-13C222F2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EFBD9-AB0E-4D9B-83F8-85F2568E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7AF4-F7B7-463D-8EDA-B3DCE40D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DECB-4E9D-4F23-B45A-813B5048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DDA-B20A-4F88-BFF9-31EEC8E6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E401-2054-44FC-90FF-66C5CB98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B946-71D7-4183-9FAC-B11FDC3E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3982-A415-4D74-980A-D8CA4A61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63382-83F2-49C6-AE34-3DEB3F0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7258-20A1-4757-953F-6C872C4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D9AD-26BC-4FDE-A0FE-EB6DE171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78CE-97C8-48E2-8F24-96EFEC2A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C894-EEE2-46BC-9E49-B429FB66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59BB-286D-40A6-9E84-586214F4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9398-61F3-42DF-AA1D-A27ECCE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331-CAF7-4583-91A6-3EE4AD66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FE3C-9FA2-4385-87E5-28A6D1C4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1DD85-CA69-40DC-A6E3-C7667260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8135-EFE1-4C1C-B436-A358F98F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09D9-58D4-4381-A270-D008F77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791C-2D4E-403E-8883-2AC121B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EAC1-C535-406F-AF3D-169003C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D6D4-0859-495C-8A32-9B74788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FB7B-F6CF-465A-A614-7160B7AB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9C5A-4D0B-4164-BD59-B3802DEE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E3ED-CD7E-409B-B89F-EA82FDAC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46A-81A7-46A5-8A0F-D95409F2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0F15-B5ED-4768-B135-03A584B3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BDC1-FA80-4444-87FA-3B01952F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10F9-6997-4F06-8F26-ED3A4023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60EF1-2325-4315-BE8C-01C7AACA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844DC-82E3-474F-B629-EFFCC81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6E08-7A11-4BDB-9DC7-50A5900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8A8D-11E1-4503-BD86-5D409F6D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3001-E1E6-4271-8A93-9E8AAEA9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FB91-F98A-4506-83D8-F4C0AB43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49CC-9B9E-4F7D-8B84-8183587F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0B4-3143-4A19-AB6B-4CD290CD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D689-7D29-4E3C-852F-5E0C4D68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BEEF-AFF7-4DC8-9F0B-0568AEF9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59D3-DCB2-4871-818B-EE009682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45D5-2783-4340-84E7-270BCDA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74E80-8A1E-45A1-A745-E1C479C9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DADFA-C557-47EC-8A2F-50B9E89C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BBD9D-7547-4E21-9AC3-68F87DC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845CE-87AB-4DF0-A9F2-8887C850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5CDC0-A571-4BC2-8A48-DF0873F9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5F99-C105-4D76-B11D-DB0530DC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385-F234-4BC5-9852-B1BE3CA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25BA-07E3-4E90-B505-F46E6D78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D186-0DCD-423F-8B2B-CD6AFAF8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AB05-051C-49CB-BD0C-874479BD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2A2F8-EF09-4707-B703-C157EAE1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6C8A5-E44A-458E-99D3-794BB7E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07B58-873A-4D31-BABD-960B162B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6C6E8-82A8-45AA-B187-0E80CB80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AF5B9-FA95-4022-8FB6-6E87E26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686A-122E-42DE-88C1-25AEB1E5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C50E9-0202-4DAB-B3C1-979AD89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A23-CBE1-431F-AD82-6DF2F720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E1FE4-A39C-4772-B671-D932085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C3E44-A85C-41B7-BEE0-83D410C1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5275D-610C-4090-93AF-4F2512B2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FD876-7595-4CDC-9472-B4DAC0DE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E9CAB-F01B-4025-9345-BD1BE154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021F-8B9A-4398-8378-E6329398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C8B71-1859-4947-B05B-F44AE84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5CEE4-6E8C-45D6-816A-EAD3510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CD676-007C-4318-A11F-71C95431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7684F-309C-4FDF-B843-1EB1C6D8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1D7-6506-4D36-9AEA-A5C0D2F1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F60A1-7E63-4D11-87F7-778F559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9C9E-0316-46B0-9316-3F1A71C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D679-AAD0-438B-B064-791CF59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A1519-DEAC-46EF-87DD-3EE070C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8D7B-5E91-460E-A86C-009275B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FFEC8-8E7A-4149-AC19-9DCF5573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EEABC-40B2-4AA6-9D20-43842894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E5467-BE6C-4A64-9477-0A68851F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89F8A-90DD-4487-80A3-3C4C878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A1274-DBAB-4F62-9BBC-E3136142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4F7F-107C-4FD3-871E-5B5D5A73A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C706-872E-4C09-A70B-6D15A731C6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4C8-5DC5-41F0-84B3-6422E072E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3D76-0B3C-4999-B4A2-972D8713CE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5996-2867-4014-AFA3-315CA5F16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B34-FBE8-4070-B664-D6A615C62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F192-FD95-4586-836C-73D7D6E0B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3730-38DE-4971-A9D1-5FDDF2AF8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A09D-B389-42B5-BE69-716D1C24E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B7CC-BF3E-477F-A2C7-F38B802F74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D737-173F-48A4-9DBA-CCCF44A7B1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9254-5B9B-4112-B9FF-DC1208A954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034A-C545-4C6A-8A42-1C717BC83C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F3FD-724D-4BA4-A242-8FF65BD86F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994-2D90-45C8-AE7C-644A32FC1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E122-46DB-4815-A43C-C7FA0115C7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B2B-B148-4A16-AD5B-334F429E0A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A48E-4AFD-4D1D-9EA4-0FA2DDEE4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DBFA-87AB-4909-92C8-6DDAFBCF18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B61A-380D-4FD8-8E29-2E6DABDFC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DF0A-1316-46BC-B0E8-69C9556CD2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BF07-23B8-44A6-AA67-EDC1D8F38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C5E-03BD-4F77-B84F-69158E4E1B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C06-F830-451A-9038-20B79D30D2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1882-CEF7-4D92-8E1B-230D1A7B74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71E0-3483-4651-885C-6B3A1629A9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4813-DDE8-4EBD-9602-7BAD1FA71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1702-8354-4C9C-88E8-6E446CD5A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33E-84BB-4E65-8F70-D5288FC4E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F37-BF89-4105-B971-F6B41DAB6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2907-35F8-4715-A087-00AB11C710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B58-AB56-4C2A-A7FE-59E28C79F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BDD8-434C-48B8-9CEA-AC07E2C104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D6F8-E0B1-4539-98CF-774C671AC2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B63E-14EF-43C5-A203-AB7AB7CD7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72E9-B397-422F-992D-3EAA803B86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C659-42CC-4F0A-8D00-F80E15C72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691-9D1D-470D-A408-D988DD69C4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59E3-93C1-4890-A2F3-D0E064C11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CB7C-CE21-4C9C-A163-44A38D5C1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66960" y="2133720"/>
            <a:ext cx="3610080" cy="9144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185840" y="3357720"/>
            <a:ext cx="6772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1285920" y="1547640"/>
            <a:ext cx="657216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257040" y="938160"/>
            <a:ext cx="8629920" cy="49816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28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3"/>
          <a:stretch/>
        </p:blipFill>
        <p:spPr>
          <a:xfrm>
            <a:off x="6012000" y="2421000"/>
            <a:ext cx="115236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4"/>
          <a:stretch/>
        </p:blipFill>
        <p:spPr>
          <a:xfrm>
            <a:off x="1547640" y="3759120"/>
            <a:ext cx="259272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5"/>
          <a:stretch/>
        </p:blipFill>
        <p:spPr>
          <a:xfrm>
            <a:off x="1116000" y="5056200"/>
            <a:ext cx="1727280" cy="44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6"/>
          <a:stretch/>
        </p:blipFill>
        <p:spPr>
          <a:xfrm>
            <a:off x="4140360" y="5041800"/>
            <a:ext cx="108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62000" y="1461960"/>
            <a:ext cx="8820000" cy="3934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87280" y="227664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25892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87280" y="35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258920" y="4149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258920" y="4797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709560" y="1257480"/>
            <a:ext cx="7723080" cy="4343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369720" y="1158840"/>
            <a:ext cx="8209080" cy="37339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530280" y="4892760"/>
            <a:ext cx="7351560" cy="1838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826920" y="306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900000" y="4941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209520" y="882720"/>
            <a:ext cx="8724960" cy="57531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38200" y="954000"/>
            <a:ext cx="8066160" cy="5608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20520" y="907920"/>
            <a:ext cx="9102960" cy="58006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2" descr=""/>
          <p:cNvPicPr/>
          <p:nvPr/>
        </p:nvPicPr>
        <p:blipFill>
          <a:blip r:embed="rId1"/>
          <a:stretch/>
        </p:blipFill>
        <p:spPr>
          <a:xfrm>
            <a:off x="657360" y="866880"/>
            <a:ext cx="7829280" cy="5124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1071720" y="1414440"/>
            <a:ext cx="7000560" cy="4029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2195640" y="2259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212400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2124000" y="364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2124000" y="4869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5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